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716000" cy="10288588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B65-B925-4437-A00C-D20C93C7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1165860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520" y="6195600"/>
            <a:ext cx="1165860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C7E-5388-40F5-9047-B81339DC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52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0236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B88-1489-42FE-BB29-8A040129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0160" y="297144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12160" y="297144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520" y="619560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70160" y="619560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912160" y="619560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02D-DE27-432F-9658-8426B649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520" y="2971440"/>
            <a:ext cx="116586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947-B716-4104-9A7D-FFB9E50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1165860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839-CEC7-4777-A999-994DCBD7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67B-7609-47E2-BC55-E513D3E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E7F-3747-45E0-879E-86E3990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520" y="914040"/>
            <a:ext cx="1165860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D8E-9F16-4766-A4D8-600DE0F9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52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2C9-8EFA-45C2-ADEE-1836D11B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36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651-7D8C-4468-88D8-682E03DB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195600"/>
            <a:ext cx="1165860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F76-E28A-4380-BB1E-4093FD4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2971440"/>
            <a:ext cx="1165860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560" indent="-4287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04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8520" y="9372240"/>
            <a:ext cx="2857320" cy="6858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93722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29800" y="9372240"/>
            <a:ext cx="2857680" cy="6858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fld id="{49FA2957-DA6E-4D39-9342-8E505EA9CA4C}" type="slidenum"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2.png"/><Relationship Id="rId21" Type="http://schemas.openxmlformats.org/officeDocument/2006/relationships/image" Target="../media/image13.wmf"/><Relationship Id="rId22" Type="http://schemas.openxmlformats.org/officeDocument/2006/relationships/image" Target="../media/image5.wmf"/><Relationship Id="rId23" Type="http://schemas.openxmlformats.org/officeDocument/2006/relationships/image" Target="../media/image14.png"/><Relationship Id="rId24" Type="http://schemas.openxmlformats.org/officeDocument/2006/relationships/oleObject" Target="../embeddings/oleObject2.bin"/><Relationship Id="rId25" Type="http://schemas.openxmlformats.org/officeDocument/2006/relationships/image" Target="../media/image15.png"/><Relationship Id="rId26" Type="http://schemas.openxmlformats.org/officeDocument/2006/relationships/oleObject" Target="../embeddings/oleObject3.bin"/><Relationship Id="rId27" Type="http://schemas.openxmlformats.org/officeDocument/2006/relationships/image" Target="../media/image16.png"/><Relationship Id="rId28" Type="http://schemas.openxmlformats.org/officeDocument/2006/relationships/image" Target="../media/image17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219320"/>
            <a:ext cx="9220320" cy="7467480"/>
          </a:xfrm>
          <a:prstGeom prst="ellipse">
            <a:avLst/>
          </a:prstGeom>
          <a:noFill/>
          <a:ln w="635040">
            <a:solidFill>
              <a:srgbClr val="fff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05120"/>
            <a:ext cx="1523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734920" y="1600200"/>
            <a:ext cx="1771560" cy="14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371600"/>
            <a:ext cx="114480" cy="458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34280" y="462276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77120" y="456552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619600" y="456552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191440" y="4622760"/>
            <a:ext cx="800280" cy="71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571400">
            <a:off x="6518160" y="1665360"/>
            <a:ext cx="943200" cy="4457520"/>
          </a:xfrm>
          <a:custGeom>
            <a:avLst/>
            <a:gdLst>
              <a:gd name="textAreaLeft" fmla="*/ 126360 w 943200"/>
              <a:gd name="textAreaRight" fmla="*/ 816840 w 943200"/>
              <a:gd name="textAreaTop" fmla="*/ 969840 h 4457520"/>
              <a:gd name="textAreaBottom" fmla="*/ 3339720 h 44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99" stAng="-5400000" swAng="5400000"/>
                <a:lnTo>
                  <a:pt x="21600" y="11484"/>
                </a:lnTo>
                <a:arcTo wR="21600" hR="9399" stAng="0" swAng="1789354"/>
                <a:lnTo>
                  <a:pt x="13060" y="19687"/>
                </a:lnTo>
                <a:lnTo>
                  <a:pt x="0" y="19841"/>
                </a:lnTo>
                <a:lnTo>
                  <a:pt x="13060" y="16168"/>
                </a:lnTo>
                <a:lnTo>
                  <a:pt x="13060" y="16885"/>
                </a:lnTo>
                <a:arcTo wR="21600" hR="9399" stAng="1789354" swAng="-1622536"/>
                <a:lnTo>
                  <a:pt x="21467" y="10442"/>
                </a:lnTo>
                <a:arcTo wR="21600" hR="9399" stAng="-166818" swAng="-5233182"/>
                <a:close/>
              </a:path>
              <a:path fill="darkenLess" w="21600" h="21600">
                <a:moveTo>
                  <a:pt x="0" y="0"/>
                </a:moveTo>
                <a:arcTo wR="21600" hR="9399" stAng="-5400000" swAng="5400000"/>
                <a:lnTo>
                  <a:pt x="21600" y="11484"/>
                </a:lnTo>
                <a:arcTo wR="21600" hR="9399" stAng="0" swAng="-166818"/>
                <a:lnTo>
                  <a:pt x="21467" y="10442"/>
                </a:lnTo>
                <a:arcTo wR="21600" hR="9399" stAng="-166818" swAng="-5233182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571400">
            <a:off x="5953680" y="2178720"/>
            <a:ext cx="984240" cy="3373560"/>
          </a:xfrm>
          <a:custGeom>
            <a:avLst/>
            <a:gdLst>
              <a:gd name="textAreaLeft" fmla="*/ 131760 w 984240"/>
              <a:gd name="textAreaRight" fmla="*/ 852480 w 984240"/>
              <a:gd name="textAreaTop" fmla="*/ 718560 h 3373560"/>
              <a:gd name="textAreaBottom" fmla="*/ 25171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4" stAng="-5400000" swAng="5400000"/>
                <a:lnTo>
                  <a:pt x="21600" y="11514"/>
                </a:lnTo>
                <a:arcTo wR="21600" hR="9204" stAng="0" swAng="2158602"/>
                <a:lnTo>
                  <a:pt x="10934" y="20334"/>
                </a:lnTo>
                <a:lnTo>
                  <a:pt x="0" y="19562"/>
                </a:lnTo>
                <a:lnTo>
                  <a:pt x="10934" y="16258"/>
                </a:lnTo>
                <a:lnTo>
                  <a:pt x="10934" y="17141"/>
                </a:lnTo>
                <a:arcTo wR="21600" hR="9204" stAng="2158602" swAng="-1973493"/>
                <a:lnTo>
                  <a:pt x="21429" y="10359"/>
                </a:lnTo>
                <a:arcTo wR="21600" hR="9204" stAng="-185110" swAng="-5214890"/>
                <a:close/>
              </a:path>
              <a:path fill="darkenLess" w="21600" h="21600">
                <a:moveTo>
                  <a:pt x="0" y="0"/>
                </a:moveTo>
                <a:arcTo wR="21600" hR="9204" stAng="-5400000" swAng="5400000"/>
                <a:lnTo>
                  <a:pt x="21600" y="11514"/>
                </a:lnTo>
                <a:arcTo wR="21600" hR="9204" stAng="0" swAng="-185110"/>
                <a:lnTo>
                  <a:pt x="21429" y="10359"/>
                </a:lnTo>
                <a:arcTo wR="21600" hR="9204" stAng="-185110" swAng="-5214890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571400">
            <a:off x="5474880" y="2754000"/>
            <a:ext cx="984240" cy="2295360"/>
          </a:xfrm>
          <a:custGeom>
            <a:avLst/>
            <a:gdLst>
              <a:gd name="textAreaLeft" fmla="*/ 131760 w 984240"/>
              <a:gd name="textAreaRight" fmla="*/ 852480 w 984240"/>
              <a:gd name="textAreaTop" fmla="*/ 481320 h 2295360"/>
              <a:gd name="textAreaBottom" fmla="*/ 1680840 h 22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1" stAng="-5400000" swAng="5400000"/>
                <a:lnTo>
                  <a:pt x="21600" y="11287"/>
                </a:lnTo>
                <a:arcTo wR="21600" hR="9061" stAng="0" swAng="2133163"/>
                <a:lnTo>
                  <a:pt x="10934" y="20353"/>
                </a:lnTo>
                <a:lnTo>
                  <a:pt x="0" y="19235"/>
                </a:lnTo>
                <a:lnTo>
                  <a:pt x="10934" y="15623"/>
                </a:lnTo>
                <a:lnTo>
                  <a:pt x="10934" y="16875"/>
                </a:lnTo>
                <a:arcTo wR="21600" hR="9061" stAng="2133163" swAng="-1954832"/>
                <a:lnTo>
                  <a:pt x="21436" y="10174"/>
                </a:lnTo>
                <a:arcTo wR="21600" hR="9061" stAng="-178331" swAng="-5221669"/>
                <a:close/>
              </a:path>
              <a:path fill="darkenLess" w="21600" h="21600">
                <a:moveTo>
                  <a:pt x="0" y="0"/>
                </a:moveTo>
                <a:arcTo wR="21600" hR="9061" stAng="-5400000" swAng="5400000"/>
                <a:lnTo>
                  <a:pt x="21600" y="11287"/>
                </a:lnTo>
                <a:arcTo wR="21600" hR="9061" stAng="0" swAng="-178331"/>
                <a:lnTo>
                  <a:pt x="21436" y="10174"/>
                </a:lnTo>
                <a:arcTo wR="21600" hR="9061" stAng="-178331" swAng="-5221669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880400">
            <a:off x="5190840" y="3231360"/>
            <a:ext cx="779400" cy="1551240"/>
          </a:xfrm>
          <a:custGeom>
            <a:avLst/>
            <a:gdLst>
              <a:gd name="textAreaLeft" fmla="*/ 104400 w 779400"/>
              <a:gd name="textAreaRight" fmla="*/ 675000 w 779400"/>
              <a:gd name="textAreaTop" fmla="*/ 296640 h 1551240"/>
              <a:gd name="textAreaBottom" fmla="*/ 1164600 h 155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69" stAng="-5400000" swAng="5400000"/>
                <a:lnTo>
                  <a:pt x="21600" y="12080"/>
                </a:lnTo>
                <a:arcTo wR="21600" hR="8269" stAng="0" swAng="1986681"/>
                <a:lnTo>
                  <a:pt x="10934" y="20462"/>
                </a:lnTo>
                <a:lnTo>
                  <a:pt x="0" y="18443"/>
                </a:lnTo>
                <a:lnTo>
                  <a:pt x="10934" y="14147"/>
                </a:lnTo>
                <a:lnTo>
                  <a:pt x="10934" y="15399"/>
                </a:lnTo>
                <a:arcTo wR="21600" hR="8269" stAng="1986681" swAng="-1675872"/>
                <a:lnTo>
                  <a:pt x="21019" y="10174"/>
                </a:lnTo>
                <a:arcTo wR="21600" hR="8269" stAng="-310809" swAng="-5089191"/>
                <a:close/>
              </a:path>
              <a:path fill="darkenLess" w="21600" h="21600">
                <a:moveTo>
                  <a:pt x="0" y="0"/>
                </a:moveTo>
                <a:arcTo wR="21600" hR="8269" stAng="-5400000" swAng="5400000"/>
                <a:lnTo>
                  <a:pt x="21600" y="12080"/>
                </a:lnTo>
                <a:arcTo wR="21600" hR="8269" stAng="0" swAng="-310809"/>
                <a:lnTo>
                  <a:pt x="21019" y="10174"/>
                </a:lnTo>
                <a:arcTo wR="21600" hR="8269" stAng="-310809" swAng="-5089191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684600" y="3479760"/>
            <a:ext cx="1760400" cy="133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65640" y="4711680"/>
            <a:ext cx="1133280" cy="184320"/>
          </a:xfrm>
          <a:prstGeom prst="rect">
            <a:avLst/>
          </a:prstGeom>
          <a:gradFill rotWithShape="0">
            <a:gsLst>
              <a:gs pos="0">
                <a:srgbClr val="feb5b5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Serveur Us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épa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van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088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Ing. Proj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232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s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7400" y="5929200"/>
            <a:ext cx="9856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mét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édaction bibliothèq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éation des doss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0556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4400" y="5940360"/>
            <a:ext cx="928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ion du trav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stion des avanc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. rap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nch-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7720" y="4973760"/>
            <a:ext cx="103320" cy="825480"/>
          </a:xfrm>
          <a:prstGeom prst="rect">
            <a:avLst/>
          </a:prstGeom>
          <a:gradFill rotWithShape="0">
            <a:gsLst>
              <a:gs pos="0">
                <a:srgbClr val="d1d1a7"/>
              </a:gs>
              <a:gs pos="50000">
                <a:srgbClr val="ffffcc"/>
              </a:gs>
              <a:gs pos="100000">
                <a:srgbClr val="d1d1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46560" y="4941720"/>
            <a:ext cx="12016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138240" indent="-13824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hiers ProGest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de 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en libre installation sur 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s posés par l’ingénie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e Web Pro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880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2320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10600" y="5942160"/>
            <a:ext cx="9712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upport pour les réu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uivi Mecha. Comple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spect des prior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37600" y="5951520"/>
            <a:ext cx="1035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pports d’avancement en temps ré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a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422760" y="4552920"/>
            <a:ext cx="343080" cy="285840"/>
            <a:chOff x="6422760" y="4552920"/>
            <a:chExt cx="343080" cy="285840"/>
          </a:xfrm>
        </p:grpSpPr>
        <p:sp>
          <p:nvSpPr>
            <p:cNvPr id="70" name=""/>
            <p:cNvSpPr/>
            <p:nvPr/>
          </p:nvSpPr>
          <p:spPr>
            <a:xfrm>
              <a:off x="6454080" y="4695840"/>
              <a:ext cx="311760" cy="142920"/>
            </a:xfrm>
            <a:custGeom>
              <a:avLst/>
              <a:gdLst>
                <a:gd name="textAreaLeft" fmla="*/ 48600 w 311760"/>
                <a:gd name="textAreaRight" fmla="*/ 264600 w 31176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422400" y="4552920"/>
              <a:ext cx="311400" cy="142920"/>
            </a:xfrm>
            <a:custGeom>
              <a:avLst/>
              <a:gdLst>
                <a:gd name="textAreaLeft" fmla="*/ 48600 w 311400"/>
                <a:gd name="textAreaRight" fmla="*/ 264240 w 31140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79920" y="4610160"/>
            <a:ext cx="343080" cy="285840"/>
            <a:chOff x="7279920" y="4610160"/>
            <a:chExt cx="343080" cy="285840"/>
          </a:xfrm>
        </p:grpSpPr>
        <p:sp>
          <p:nvSpPr>
            <p:cNvPr id="73" name=""/>
            <p:cNvSpPr/>
            <p:nvPr/>
          </p:nvSpPr>
          <p:spPr>
            <a:xfrm>
              <a:off x="7311240" y="4753080"/>
              <a:ext cx="311760" cy="142920"/>
            </a:xfrm>
            <a:custGeom>
              <a:avLst/>
              <a:gdLst>
                <a:gd name="textAreaLeft" fmla="*/ 48600 w 311760"/>
                <a:gd name="textAreaRight" fmla="*/ 264600 w 31176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79560" y="4610160"/>
              <a:ext cx="311400" cy="142920"/>
            </a:xfrm>
            <a:custGeom>
              <a:avLst/>
              <a:gdLst>
                <a:gd name="textAreaLeft" fmla="*/ 48600 w 311400"/>
                <a:gd name="textAreaRight" fmla="*/ 264240 w 31140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137440" y="4610160"/>
            <a:ext cx="343080" cy="285840"/>
            <a:chOff x="8137440" y="4610160"/>
            <a:chExt cx="343080" cy="285840"/>
          </a:xfrm>
        </p:grpSpPr>
        <p:sp>
          <p:nvSpPr>
            <p:cNvPr id="76" name=""/>
            <p:cNvSpPr/>
            <p:nvPr/>
          </p:nvSpPr>
          <p:spPr>
            <a:xfrm>
              <a:off x="8168400" y="4753080"/>
              <a:ext cx="312120" cy="142920"/>
            </a:xfrm>
            <a:custGeom>
              <a:avLst/>
              <a:gdLst>
                <a:gd name="textAreaLeft" fmla="*/ 48600 w 312120"/>
                <a:gd name="textAreaRight" fmla="*/ 264960 w 31212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137440" y="4610160"/>
              <a:ext cx="311760" cy="142920"/>
            </a:xfrm>
            <a:custGeom>
              <a:avLst/>
              <a:gdLst>
                <a:gd name="textAreaLeft" fmla="*/ 48600 w 311760"/>
                <a:gd name="textAreaRight" fmla="*/ 264600 w 31176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581800" y="5448240"/>
            <a:ext cx="3600360" cy="171360"/>
          </a:xfrm>
          <a:prstGeom prst="rect">
            <a:avLst/>
          </a:prstGeom>
          <a:gradFill rotWithShape="0">
            <a:gsLst>
              <a:gs pos="0">
                <a:srgbClr val="feb5b5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900" spc="-1" strike="noStrike">
                <a:solidFill>
                  <a:srgbClr val="eaeaea"/>
                </a:solidFill>
                <a:latin typeface="Arial"/>
              </a:rPr>
              <a:t>PCs Us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209680"/>
            <a:ext cx="114480" cy="19926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81080"/>
            <a:ext cx="1943280" cy="17172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épa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200320"/>
            <a:ext cx="2438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métrage de l’Application : définition des Aires, Zones, Unités, Systèmes Process, Codes travaux, Entreprises, signataires, risques et préconisations par code travaux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édaction des gammes opératoires génériques en veillant à l’homogénéité entre spécialité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éation des dossiers de récepti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idation des dossiers par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Pro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ur les travaux                              par Système Process                                         (revues PID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Inspe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ur                                                 les points d’arrê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Ingénieurs Projet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ur le scop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Sécurit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ur l’évaluation                                     des risques (E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7010280" y="457200"/>
            <a:ext cx="1543320" cy="1068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5280" y="4378320"/>
            <a:ext cx="22518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éaliser la Préparation par du perso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nt une culture Bureau d’Étu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isométrique (folio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Référence Ob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TAG instrumen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Référence Ob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lan charpente/GC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Référence Ob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j0195812" descr=""/>
          <p:cNvPicPr/>
          <p:nvPr/>
        </p:nvPicPr>
        <p:blipFill>
          <a:blip r:embed="rId8"/>
          <a:stretch/>
        </p:blipFill>
        <p:spPr>
          <a:xfrm>
            <a:off x="304920" y="4226040"/>
            <a:ext cx="282600" cy="29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0080" y="380880"/>
            <a:ext cx="114480" cy="15973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152280"/>
            <a:ext cx="1943280" cy="17172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ication Entrepri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369720"/>
            <a:ext cx="2590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ntégration des Entreprises dans l’équipe Préparation (connaissance méti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lidation des gammes opératoires                            et complément éventuel d’infor-                                     mation (saisie champs Entre-                                           prise, Code travaux, etc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réation des check-lists                                               pour interventions spécifiques                                       (exemple: interventions sur gros                   équipements, spécificités du Site, etc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aisie des pondérations (durées) et 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finition du pré-planning : enchaînement des tâches principales entre corps de mét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53200" y="2228760"/>
            <a:ext cx="28764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ir compte du potentiel d’implication des Entreprises lors de l’affectation des Marchés de Travaux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ciser que les durées concernent les heures productives chantier sans encadr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195812" descr=""/>
          <p:cNvPicPr/>
          <p:nvPr/>
        </p:nvPicPr>
        <p:blipFill>
          <a:blip r:embed="rId9"/>
          <a:stretch/>
        </p:blipFill>
        <p:spPr>
          <a:xfrm>
            <a:off x="5353200" y="2057400"/>
            <a:ext cx="282600" cy="291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210680" y="1523880"/>
            <a:ext cx="114480" cy="18259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210680" y="1295280"/>
            <a:ext cx="1943280" cy="17172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210680" y="1512720"/>
            <a:ext cx="24386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Utilisation interface ProGest / Primavera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cupération automatique par batch quotidien des données créées par la cellule Préparation (= 90% du contenu du planning final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vues d’élaboration planning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superposition des tâches                             Production et MTN sur PI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création des liens entre tâches                               Projet et les tâches Usin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lissage et histogrammes                                        des ressources chantier par Zon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cupération automatique des dates                           de fin prévues dans ProGest pour la                       distribution du travail en phase de réalisati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lidation du planning par les Entrepri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96560" y="3600360"/>
            <a:ext cx="33908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mer un ingénieur planning doté d’une bonne connaissance du terrain. Limiter le planning aux tâches principales et planifier les tâches de détail dans ProGest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1 Tâche planning   =   1 ou plusieurs points de Check-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(la granularité du planning est à statuer au départ suivant les beso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pliquer le Planneur dans la cellule Préparation à 30% d’avanc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j0195812" descr=""/>
          <p:cNvPicPr/>
          <p:nvPr/>
        </p:nvPicPr>
        <p:blipFill>
          <a:blip r:embed="rId10"/>
          <a:stretch/>
        </p:blipFill>
        <p:spPr>
          <a:xfrm>
            <a:off x="10153800" y="3429000"/>
            <a:ext cx="282600" cy="29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731600">
            <a:off x="8674200" y="1695240"/>
            <a:ext cx="1257120" cy="39996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399960"/>
              <a:gd name="textAreaBottom" fmla="*/ 328680 h 39996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ff8b3"/>
              </a:gs>
              <a:gs pos="100000">
                <a:srgbClr val="f8c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810880" y="7086600"/>
            <a:ext cx="1225440" cy="1371240"/>
            <a:chOff x="11810880" y="7086600"/>
            <a:chExt cx="1225440" cy="1371240"/>
          </a:xfrm>
        </p:grpSpPr>
        <p:pic>
          <p:nvPicPr>
            <p:cNvPr id="97" name="" descr=""/>
            <p:cNvPicPr/>
            <p:nvPr/>
          </p:nvPicPr>
          <p:blipFill>
            <a:blip r:embed="rId11"/>
            <a:stretch/>
          </p:blipFill>
          <p:spPr>
            <a:xfrm>
              <a:off x="11810880" y="7386480"/>
              <a:ext cx="643680" cy="7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2"/>
            <a:stretch/>
          </p:blipFill>
          <p:spPr>
            <a:xfrm>
              <a:off x="12609360" y="7086600"/>
              <a:ext cx="339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3"/>
            <a:stretch/>
          </p:blipFill>
          <p:spPr>
            <a:xfrm>
              <a:off x="12487320" y="7921440"/>
              <a:ext cx="495000" cy="536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00" name=""/>
            <p:cNvSpPr/>
            <p:nvPr/>
          </p:nvSpPr>
          <p:spPr>
            <a:xfrm>
              <a:off x="12387600" y="7700040"/>
              <a:ext cx="648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Arial"/>
                </a:rPr>
                <a:t>PDA </a:t>
              </a:r>
              <a:r>
                <a:rPr b="1" sz="800" spc="-1" strike="noStrike">
                  <a:solidFill>
                    <a:srgbClr val="ff3300"/>
                  </a:solidFill>
                  <a:latin typeface="Arial"/>
                </a:rPr>
                <a:t>A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09" descr=""/>
          <p:cNvPicPr/>
          <p:nvPr/>
        </p:nvPicPr>
        <p:blipFill>
          <a:blip r:embed="rId14"/>
          <a:stretch/>
        </p:blipFill>
        <p:spPr>
          <a:xfrm>
            <a:off x="6838920" y="8448840"/>
            <a:ext cx="1295280" cy="96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1600200" y="6324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7448400" y="7610400"/>
            <a:ext cx="838440" cy="76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210680" y="6477120"/>
            <a:ext cx="114480" cy="17380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10680" y="624852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vancement / Su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10680" y="6465960"/>
            <a:ext cx="22100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8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possibilité : Gestion Pap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istribution quotidienne ou hebdomadaire des fiches de travail par Superviseur chantier, Inspecteur et Entrepr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tour quotidien des fiches anot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aisie des informations + punch-l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possibilité : Pocket 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 Pocket PC par Superviseur                     et par Inspecte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llecte des Pocket PC                      chaque so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ynchronisation et                            redistribution le mat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ucune saisie manu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34720" y="8483760"/>
            <a:ext cx="30607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l est beaucoup plus avantageux d’opter pour une solution mobile (</a:t>
            </a:r>
            <a:r>
              <a:rPr b="1" lang="fr-FR" sz="800" spc="-1" strike="noStrike">
                <a:solidFill>
                  <a:srgbClr val="ff0000"/>
                </a:solidFill>
                <a:latin typeface="Arial"/>
              </a:rPr>
              <a:t>coûts divisés par 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capitalisation des Pocket PC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D Conept encourage vivement à l’usage des Pocket 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j0195812" descr=""/>
          <p:cNvPicPr/>
          <p:nvPr/>
        </p:nvPicPr>
        <p:blipFill>
          <a:blip r:embed="rId17"/>
          <a:stretch/>
        </p:blipFill>
        <p:spPr>
          <a:xfrm>
            <a:off x="10153800" y="8312040"/>
            <a:ext cx="282600" cy="29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414400">
            <a:off x="10632600" y="5025960"/>
            <a:ext cx="1257120" cy="39996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399960"/>
              <a:gd name="textAreaBottom" fmla="*/ 328680 h 39996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8c900"/>
              </a:gs>
              <a:gs pos="100000">
                <a:srgbClr val="fff8b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7848720"/>
            <a:ext cx="114480" cy="13143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762012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Reporting / Doc. Constru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7837560"/>
            <a:ext cx="201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ession des Guides de Réce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pports d’Avancement phys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V de Réception Mécan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V de réception par                   Système 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hes de trav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ultiplication des                             rapports grâce aux                    nombreuses possibilités                   de filtres multicritè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9372600"/>
            <a:ext cx="2705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composer les points de check-list en 25, 50, 75 et 100% lorsqu’ils couvrent de grosses interventions. La finesse de l’avancement physique en sera amélioré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j0195812" descr=""/>
          <p:cNvPicPr/>
          <p:nvPr/>
        </p:nvPicPr>
        <p:blipFill>
          <a:blip r:embed="rId18"/>
          <a:stretch/>
        </p:blipFill>
        <p:spPr>
          <a:xfrm>
            <a:off x="5334120" y="9220320"/>
            <a:ext cx="282600" cy="29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0613000">
            <a:off x="4208400" y="5893920"/>
            <a:ext cx="838440" cy="609840"/>
          </a:xfrm>
          <a:custGeom>
            <a:avLst/>
            <a:gdLst>
              <a:gd name="textAreaLeft" fmla="*/ 191160 w 838440"/>
              <a:gd name="textAreaRight" fmla="*/ 647280 w 8384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è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84840" y="6219720"/>
          <a:ext cx="399960" cy="409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84840" y="6219720"/>
                    <a:ext cx="3999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 flipH="1" rot="1657200">
            <a:off x="3555720" y="7905600"/>
            <a:ext cx="1257120" cy="40032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400320"/>
              <a:gd name="textAreaBottom" fmla="*/ 329040 h 40032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8c900"/>
              </a:gs>
              <a:gs pos="100000">
                <a:srgbClr val="fff8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19868400">
            <a:off x="8647560" y="7822800"/>
            <a:ext cx="1257480" cy="399960"/>
          </a:xfrm>
          <a:custGeom>
            <a:avLst/>
            <a:gdLst>
              <a:gd name="textAreaLeft" fmla="*/ 196200 w 1257480"/>
              <a:gd name="textAreaRight" fmla="*/ 1055520 w 1257480"/>
              <a:gd name="textAreaTop" fmla="*/ 71280 h 399960"/>
              <a:gd name="textAreaBottom" fmla="*/ 328680 h 39996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ff8b3"/>
              </a:gs>
              <a:gs pos="100000">
                <a:srgbClr val="f8c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1"/>
          <a:stretch/>
        </p:blipFill>
        <p:spPr>
          <a:xfrm>
            <a:off x="12039480" y="6026040"/>
            <a:ext cx="1447920" cy="98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1040" y="6004080"/>
            <a:ext cx="114480" cy="137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040" y="577548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hant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1040" y="5994360"/>
            <a:ext cx="20574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finition complète du Scope à travers les check-lists (Guides de Réception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raçabilité accrue des travaux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montée instantanée                                des points bloquant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estion informatique                         des punch-list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racking des heures                                 Entreprises sur Sit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spect des préconi-                                    sations Sécurité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639200"/>
            <a:ext cx="25146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ide au permis de démar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grâce au tri par Systèmes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ppréhender l’inertie des réceptions de               Projet et évaluer la charge côté « Client ».          Opter pour la solution Pocket PC car la saisie      des punch-lists peut s’avérer longue et fastidie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j0195812" descr=""/>
          <p:cNvPicPr/>
          <p:nvPr/>
        </p:nvPicPr>
        <p:blipFill>
          <a:blip r:embed="rId22"/>
          <a:stretch/>
        </p:blipFill>
        <p:spPr>
          <a:xfrm>
            <a:off x="254160" y="7467480"/>
            <a:ext cx="282240" cy="29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152280"/>
            <a:ext cx="838080" cy="8384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838440"/>
              <a:gd name="textAreaBottom" fmla="*/ 797760 h 838440"/>
            </a:gdLst>
            <a:ahLst/>
            <a:rect l="textAreaLeft" t="textAreaTop" r="textAreaRight" b="textAreaBottom"/>
            <a:pathLst>
              <a:path w="21600" h="21609">
                <a:moveTo>
                  <a:pt x="3600" y="0"/>
                </a:moveTo>
                <a:arcTo wR="3600" hR="3600" stAng="16200000" swAng="-5400000"/>
                <a:lnTo>
                  <a:pt x="0" y="18009"/>
                </a:lnTo>
                <a:arcTo wR="3600" hR="3600" stAng="10800000" swAng="-5400000"/>
                <a:lnTo>
                  <a:pt x="18000" y="21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04920"/>
            <a:ext cx="312408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sation de la Pré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réalisé lors d’un arrêt e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835080" y="9607680"/>
          <a:ext cx="676080" cy="3175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2835080" y="9607680"/>
                    <a:ext cx="676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2042720" y="9607680"/>
          <a:ext cx="689040" cy="301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042720" y="9607680"/>
                    <a:ext cx="68904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5400000">
            <a:off x="2590200" y="-990360"/>
            <a:ext cx="76320" cy="3733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11582280" y="-990720"/>
            <a:ext cx="76320" cy="37339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8920" y="3127320"/>
            <a:ext cx="1295280" cy="1227240"/>
            <a:chOff x="1528920" y="3127320"/>
            <a:chExt cx="1295280" cy="1227240"/>
          </a:xfrm>
        </p:grpSpPr>
        <p:pic>
          <p:nvPicPr>
            <p:cNvPr id="135" name="" descr=""/>
            <p:cNvPicPr/>
            <p:nvPr/>
          </p:nvPicPr>
          <p:blipFill>
            <a:blip r:embed="rId28"/>
            <a:stretch/>
          </p:blipFill>
          <p:spPr>
            <a:xfrm>
              <a:off x="1528920" y="3127320"/>
              <a:ext cx="129528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20161200">
              <a:off x="1912680" y="34513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B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114300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onnées d’entrée (B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ossiers « Bon Pour Construction »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D master (interventions bullées par Projet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iste instrument + liste d’isométrique / lignes  (épreuve + conditions process) par Proj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68440" y="5440320"/>
            <a:ext cx="533520" cy="764280"/>
            <a:chOff x="2368440" y="5440320"/>
            <a:chExt cx="533520" cy="764280"/>
          </a:xfrm>
        </p:grpSpPr>
        <p:sp>
          <p:nvSpPr>
            <p:cNvPr id="140" name=""/>
            <p:cNvSpPr/>
            <p:nvPr/>
          </p:nvSpPr>
          <p:spPr>
            <a:xfrm>
              <a:off x="2368440" y="564192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87520" y="562284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95800" y="544032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76920" y="7132680"/>
            <a:ext cx="532800" cy="764280"/>
            <a:chOff x="4876920" y="7132680"/>
            <a:chExt cx="532800" cy="764280"/>
          </a:xfrm>
        </p:grpSpPr>
        <p:sp>
          <p:nvSpPr>
            <p:cNvPr id="144" name=""/>
            <p:cNvSpPr/>
            <p:nvPr/>
          </p:nvSpPr>
          <p:spPr>
            <a:xfrm>
              <a:off x="4876920" y="7334280"/>
              <a:ext cx="51552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95640" y="7315200"/>
              <a:ext cx="5140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3560" y="713268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753480" y="5684760"/>
            <a:ext cx="533520" cy="764280"/>
            <a:chOff x="9753480" y="5684760"/>
            <a:chExt cx="533520" cy="764280"/>
          </a:xfrm>
        </p:grpSpPr>
        <p:sp>
          <p:nvSpPr>
            <p:cNvPr id="148" name=""/>
            <p:cNvSpPr/>
            <p:nvPr/>
          </p:nvSpPr>
          <p:spPr>
            <a:xfrm>
              <a:off x="9753480" y="588636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72560" y="586728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780840" y="568476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2268080" y="884160"/>
            <a:ext cx="533520" cy="764280"/>
            <a:chOff x="12268080" y="884160"/>
            <a:chExt cx="533520" cy="764280"/>
          </a:xfrm>
        </p:grpSpPr>
        <p:sp>
          <p:nvSpPr>
            <p:cNvPr id="152" name=""/>
            <p:cNvSpPr/>
            <p:nvPr/>
          </p:nvSpPr>
          <p:spPr>
            <a:xfrm>
              <a:off x="12268080" y="108576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87160" y="106668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295440" y="88416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724280" y="-117360"/>
            <a:ext cx="533520" cy="764280"/>
            <a:chOff x="4724280" y="-117360"/>
            <a:chExt cx="533520" cy="764280"/>
          </a:xfrm>
        </p:grpSpPr>
        <p:sp>
          <p:nvSpPr>
            <p:cNvPr id="156" name=""/>
            <p:cNvSpPr/>
            <p:nvPr/>
          </p:nvSpPr>
          <p:spPr>
            <a:xfrm>
              <a:off x="4724280" y="95040"/>
              <a:ext cx="515880" cy="43776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43360" y="75960"/>
              <a:ext cx="514440" cy="43776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51640" y="-11736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14600" y="1523880"/>
            <a:ext cx="533520" cy="764280"/>
            <a:chOff x="2514600" y="1523880"/>
            <a:chExt cx="533520" cy="764280"/>
          </a:xfrm>
        </p:grpSpPr>
        <p:sp>
          <p:nvSpPr>
            <p:cNvPr id="160" name=""/>
            <p:cNvSpPr/>
            <p:nvPr/>
          </p:nvSpPr>
          <p:spPr>
            <a:xfrm>
              <a:off x="2514600" y="172548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33680" y="170640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41960" y="152388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V="1" rot="19868400">
            <a:off x="3543120" y="1605600"/>
            <a:ext cx="1257120" cy="40032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400320"/>
              <a:gd name="textAreaBottom" fmla="*/ 329040 h 40032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8c900"/>
              </a:gs>
              <a:gs pos="100000">
                <a:srgbClr val="fff8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9067680"/>
            <a:ext cx="1295280" cy="838440"/>
          </a:xfrm>
          <a:prstGeom prst="irregularSeal1">
            <a:avLst/>
          </a:prstGeom>
          <a:solidFill>
            <a:srgbClr val="ffff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en temps re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1582280" y="7543800"/>
            <a:ext cx="76320" cy="37339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797120"/>
            <a:ext cx="263520" cy="15228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0"/>
                </a:moveTo>
                <a:lnTo>
                  <a:pt x="144" y="144"/>
                </a:lnTo>
                <a:lnTo>
                  <a:pt x="0" y="0"/>
                </a:lnTo>
                <a:lnTo>
                  <a:pt x="288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2133000" y="7543800"/>
            <a:ext cx="76320" cy="3733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8:53:49Z</dcterms:created>
  <dc:creator>Sami Benelhadjsaid</dc:creator>
  <dc:description/>
  <dc:language>en-US</dc:language>
  <cp:lastModifiedBy>Sami</cp:lastModifiedBy>
  <dcterms:modified xsi:type="dcterms:W3CDTF">2006-01-07T21:03:38Z</dcterms:modified>
  <cp:revision>28</cp:revision>
  <dc:subject/>
  <dc:title>Présentation PowerPoint</dc:title>
</cp:coreProperties>
</file>